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5002-6E38-488B-97DF-650169367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6061-D854-49A5-89FB-7E5F15AA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83A2-2444-408D-B400-306CC3868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D669-B515-44AF-83F4-A79DFF357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92E8-044D-4678-A166-BCEB42CB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3034-DA6D-4388-9965-3A4FE638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D5DF-4D72-4EB5-ADD0-F6BFE89F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44E6-74BB-47C1-8C48-664B84A7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F133-CC14-421D-B8C6-74DE17D7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8A03-0B89-4C7D-AE87-602D2A9D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1618-68DB-4CF5-BE10-E6475DA1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8120-C5EF-43E9-80D5-E801B625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703C-8659-4B60-A0E6-071A92D99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THE STUDY   QUESTION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239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4674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91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238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3152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09-25T14:17:13Z</dcterms:modified>
  <cp:revision>94</cp:revision>
  <dc:subject/>
  <dc:title>The Art in the State of the Art</dc:title>
</cp:coreProperties>
</file>